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C3D-7C64-416C-A10C-D483577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B0A-2A67-4F51-964C-3F1C961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D20-91BF-41CF-9A01-982DEA35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E92-82B4-46D8-8A94-0CBB2965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9A8-A07E-41F2-9C29-79AFFC03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F34-C4C2-494A-BDD1-37F2DF46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69C-D6A3-4F5E-A810-6CCBE0F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79B-CE4C-4C3E-BEE3-DD52F5D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3AD-03D9-4C2A-A867-0F2DF57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486-9202-457B-B1B8-6DAB517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1A3-A830-4450-8C72-3B9B39E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CF6-EFC9-4F06-A268-27EE6DD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1729-7032-411F-8A83-F1E4873D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Braun_HF_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r.wikipedia.org/wiki/R&#244;le_du_spectateur_dans_l%27ar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198864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éléviseur de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Un téléviseur de 19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1905120" cy="249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50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télévision LCD à écran pl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437400">
            <a:off x="2762280" y="67752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télévi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&lt;b&gt;SAMSUNG&lt;br&gt;Ecran 82cm&lt;br&gt;1366 X 768&lt;br&gt;3 HDMI TNT&lt;br&gt;Movie plus"/>
          <p:cNvPicPr/>
          <p:nvPr/>
        </p:nvPicPr>
        <p:blipFill>
          <a:blip r:embed="rId3"/>
          <a:stretch/>
        </p:blipFill>
        <p:spPr>
          <a:xfrm>
            <a:off x="5580000" y="3716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157 0.77155 C -0.1967 0.67098 0.00833 0.5704 0.05069 0.51375 C 0.0934 0.4571 -0.18004 0.46751 -0.14601 0.43121 C -0.11198 0.39491 0.23975 0.34751 0.25555 0.29595 C 0.27135 0.24439 -0.01702 0.16207 -0.05087 0.12254 C -0.08473 0.083 0.00191 0.08346 0.05243 0.05918 C 0.10277 0.03491 0.21545 0.003 0.25086 -0.02313 C 0.28628 -0.04926 0.30694 -0.10105 0.2651 -0.09712 C 0.22326 -0.09319 0.04409 -0.01573 2.77778E-007 -6.47399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Les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À mon avis,  les documentaires sont ennuy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infos sont ennuye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 parents préfè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a ne m’intéresse pas/ Je trouve ça barbant/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temps en temps on se dispute à cause de la télé car le meilleur endroit de regarder la télé est dans la salle de séj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j’avais toujour les choix pour ma famille nous regarderaient toujou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s dessins animé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Je n’aime pas regarder la tél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jouer à l’ordinateur. S’il y a une émission qui m’intéresse je peux la voir sur l’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aller au cinéma car il est mieux sur le grand 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louer des D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372360" y="4076640"/>
            <a:ext cx="200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En conclu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somm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bref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... j’aime bien regarder la télé. Certaines émissions sont éducatives et on peut se reposer en regardant la télé. C’est une fuite de réalité pour quelques heure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933720"/>
            <a:ext cx="83516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De toute faço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tout ca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a télé est toujours plus intéressante que les devoir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Une télévision LCD à écran p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439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lus de dé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rix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00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sig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bon desig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alité d'imag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bonn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alité sono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nn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acilité d'utilis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facil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apport qualité/prix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aison du choix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sard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505764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56360" y="1341360"/>
            <a:ext cx="2376360" cy="2951280"/>
          </a:xfrm>
          <a:prstGeom prst="wedgeRoundRectCallout">
            <a:avLst>
              <a:gd name="adj1" fmla="val 6712"/>
              <a:gd name="adj2" fmla="val 831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 principal passe temps le weekend est de regarder la télévision avec mon chérie, et je vous garanti que regarder un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v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à dessus est vraiment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jouissi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4581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joyable/ pleasu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msung LE32R86BD"/>
          <p:cNvPicPr/>
          <p:nvPr/>
        </p:nvPicPr>
        <p:blipFill>
          <a:blip r:embed="rId3"/>
          <a:stretch/>
        </p:blipFill>
        <p:spPr>
          <a:xfrm>
            <a:off x="1332000" y="1484280"/>
            <a:ext cx="26254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Pourquoi est-ce qu’on regarde la tél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télévision peut entraîner, chez le spectateur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une fuite de la réali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On peut se détendre facilement chez s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’est un bon moyen de savoir ce qui se passe dans le monde. Le journal télévisé du soir est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un quasi ritu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La télévision est dans la société le principal média d'information. On peut s’informer des actuali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le offre une grande sélection d’émissions – il y a toutes sortes de genres pour chac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’est populaire/ à la mode et on peut partager les mêmes expériences et échanger des points de vue sur certaines choses – par exemple, qui va gagner X-factor?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341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 escape from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4364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most a r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Qu’est-ce que tu penses de la tél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490840" cy="306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413000"/>
            <a:ext cx="4680000" cy="3671640"/>
          </a:xfrm>
          <a:prstGeom prst="wedgeRectCallout">
            <a:avLst>
              <a:gd name="adj1" fmla="val 89518"/>
              <a:gd name="adj2" fmla="val 48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557360"/>
            <a:ext cx="4895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Je trouve que la télévision est très favorable à la culture.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haque fois que quelqu'un l'allume chez moi,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je vais dans la pièce à côté et je 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cho Ma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897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Arial"/>
              </a:rPr>
              <a:t>Un écran 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anglais 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c light-emitting di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ui a formé l’acronyme O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franç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ode électroluminescente orga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Un écran OLED."/>
          <p:cNvPicPr/>
          <p:nvPr/>
        </p:nvPicPr>
        <p:blipFill>
          <a:blip r:embed="rId1"/>
          <a:stretch/>
        </p:blipFill>
        <p:spPr>
          <a:xfrm>
            <a:off x="5580000" y="105264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35772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OLED sont actuellement de plus en plus utilisées dans des produits à durée de vie courte ou moyenne &gt; On les utilise dan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les téléphones mobiles/ portables, les baladeurs mp3 et les appareils photographiques numériqu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utilisation pour des produits à durée de vie plus longue devrait mettre un peu plus de temps. On va les utiliser pour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les moniteurs d’ordinateurs et télévis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3737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technologi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L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ssède de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nombreux avantag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 rapport aux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C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ible consommation électrique, meilleur rendu des couleurs, meilleur contraste minceur et souplesse du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Les jeunes et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ujourd’hu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entend souvent dire 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e nos jou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 dit souvent q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jeunes regardent trop la télé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’un cô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 peut apprendre beaucoup de choses en regardent la té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’un autre cô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ela peut être une perte de te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ains jeunes regardent la télé tous les soirs. D’autres préfèrent faire du sport/ d’autres font du sport ou sortent avec leurs amis/cop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Moi et la tél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i, je regarde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 de temps en tem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té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 rarement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regarde la télé environ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rois heures par j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inq heures par sema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Où est la tél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 ma propre chambre dans ma chambre et je l’y regarde car c’est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 y a trois télés dans la maison mais je n’ai aucune télé dans ma chambre – c’est interd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peux regarder ce que je v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 pas le droit de regarder la télé tard le s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Émission préféré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mission préféré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 “Friends”. C’est une comédie et je l’aime bien car c’est drôle/amusant. Jennifer Anniston joue un rôle signifcatif/ un des rôles principaux et elle est bonne actr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mission préféré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 “ER”. C’est un feuilleton et je l’aime bien parce que c’est passionant. George Clooney joue le rôle principal est il est bon acte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58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éfère regarder des comédies/ des dessins anim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38:08Z</dcterms:created>
  <dc:creator>Rosalind Elliott</dc:creator>
  <dc:description/>
  <dc:language>en-US</dc:language>
  <cp:lastModifiedBy>Rosalind Elliott</cp:lastModifiedBy>
  <dcterms:modified xsi:type="dcterms:W3CDTF">2007-11-12T22:12:37Z</dcterms:modified>
  <cp:revision>5</cp:revision>
  <dc:subject/>
  <dc:title>La télévision</dc:title>
</cp:coreProperties>
</file>